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8748-07C5-4602-9E9C-30692A3C2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B762-B078-4440-AD9B-535677D8F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kis:  everyone can add, edit, change, or delete (unless page is locked by the wiki organiz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gs are like journals:  others cannot ed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0FAA-2873-4377-B1B8-54629BF4D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ology policy should include a code of ethics and a set of proced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frank conversations with students (create a cyber awareness survey to initiate convers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and teacher code of ethics (create or modify and existing o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about how information may be released in the blog or wiki (names, pictures, etc.) – refer to school policy &amp; privacy 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E71C-6FC0-4437-B971-471B1732A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C7B5-EBD2-4489-8DAD-A6F51A509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n’t need to be a technology expert, but you do need to have some understanding of the tools and the educational potential of those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 to understand what effective tech support looks like and how to fund for appropriate staffing and trai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to understand what constitutes effective tech usage so that they can evaluate it and facilitate it school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training in legal, ethical, and policy issues related to student and employee use of the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EC3E-670E-4A05-ABF7-8F2E9CE0D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craft “in plain english”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53CC-60F4-473C-883B-FA1ED9A94F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directed or teacher directed:  A wiki can be something that teachers create or that students create:  teachers may create a wiki as supplemental information for the class.  Students may create a wiki collectively for a particular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kis are useful for creating documents collaboratively (agendas, staff meetings, policy docum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ers can write, add, edit, and change the web page (wiki) at any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2866-3758-48E2-9B38-EFB95ED55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illrichardson.wikispaces.com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F96C-A8E1-43CC-9B83-4FF5D7916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craft “in plain english” vide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A067-1205-4137-A921-724E8E6D9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active:  different than listservs and static web p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:   students acquire language skills best through meaningful engagement with the language (as opposed to a list of grammatical rules to master).  Create opportunities for social engagement and cooperative learning.  AUTHENITIC LANGUAGE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blog for science or math to discuss concep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education blog (http://specialed.about.c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lassblogmeister.com and www.gaggle.net are developed for schools and mandate teacher supervision.  Edublogs.org is also an educational blogging site commonly used for secondary and adult purpo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4D81-A8DC-49D3-922C-409BFFA9A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created blogs for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created blogs for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created blogs for other teachers/ad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created blogs for class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F32A-1AE6-458B-A733-AA5735416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g is a great way to bypass local media and “get” your own version of the story out there and to get “feedback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ilitate feelings of community within your school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s are increasingly checking out school websites as part of their relocation decision making (marke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customers (parents &amp; community members)  who are passionate about their school and talk about how great it is to everyone they m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thoughts out there for the community to chew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ocate change or ask readers to become informed on issues (state and local legislative a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EE9-EC82-4B6A-A21A-7715316C0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8B3-5370-48C5-A1D5-CD82E63E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C0B-E201-47AF-A194-9DA91DC0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1FF33-66CB-4651-AED1-084B859F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314F1D-AD34-4654-A2C2-8C9BB0E8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5B393-5A5C-4E03-8F00-62A76CFF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1E841-CD1A-4842-BF4B-5DB4DE02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02082-95D0-4862-AD6D-F0F0C9D2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4D0B3-48CD-4D4E-97E0-EC6A0305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839CB-D0AF-4E30-A33A-F4B9AC16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6EDB5-9CC2-4D2D-B96B-B580392A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EE59B-B8C5-4155-A553-439FCFD1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785DBE-0CCA-4F78-AC5A-9C1C9A1A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42B-5D9F-4EC3-8EA8-AF9DC7B2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4A0F28-56E2-4A25-80F3-30B81C9E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40B58-6F1B-4361-B72C-BBB1B30B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3C2C9-FFC4-43D8-B782-3771DC94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A4AF9-52E8-48FE-9F7C-FC5C47AF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FAD81-697B-4C5F-8FAE-A12A267F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6EF2C-858F-4820-9687-0A880286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A81A6-308C-4760-B4D3-6A123043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58316-1A6E-4367-8878-F36D9CF9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04768-248F-4C62-8F3B-A4E56EDA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CC7D9-2DC2-4D12-BE1A-0F41DBEC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247-9B1B-4130-A4C5-3226EF39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EC373-ABF5-41B8-8FCA-CCFBD819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2A6C5-33DE-4CA0-8DB6-94A066C2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DC6E5-31FE-416B-9A5F-49578F97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DD3DF-88E8-4C90-8110-865B0636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18741-D374-406B-BAC8-93CA831F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97B2B-F23A-4E6B-9F83-B26F5489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949E3-3DAA-4922-914F-0AD635EF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5F484-5E80-4BA9-BB8E-3B6B29F1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FCFF4-E023-46E1-AEB0-6A2725FC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6B252-CC58-4085-8A1B-90FC6FD1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65B1-3A7C-451C-9D5B-49E3F9D4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1AF01-8987-45BA-BBAA-4C28EA99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7E882-EAA6-4505-AF86-5E076362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D09CF-CB92-4541-910B-6669663D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2B120-0DF1-45AA-B01B-FC7D971C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312A5-93C1-4C8F-846F-5D079654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30D15C-3E66-4235-AC26-C7822658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3E42A-3DA6-44AF-9C4B-A9C0B933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B23AD-062E-4389-8A34-D361AD3F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F7168-C2EA-4896-B4C9-6B8A2C58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281EF-0C68-4B38-B46D-6E1C0539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149B-C341-4AD2-9AE0-7F568676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87E22-ECF2-44A7-AB47-82274DC5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DFB0E-9556-4C99-B2F6-94554894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D0B9A-DE40-441D-863F-0D5008A6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95643-E208-4784-9175-B58D21FA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10771-CBBD-4455-A24B-EB2D58A0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1B7C-34DE-4DBD-A73D-4A304109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6CC0-29E6-4789-990B-D3B4BB93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295A-522A-4745-A6DC-8F871EA0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1EFB-145D-43AB-8BDB-B3C7DF97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5417-CDC5-48FB-9BE6-F05D0ED3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14C-5E82-448F-8A88-86FF0C71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A73A-A579-4603-9579-CD8A0873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9884-07B3-4E71-B427-E00F80FC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E0D5-6F01-4F5B-ACDF-8DC6F275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C1A9-19C1-4638-8EDD-B01A08B5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C07C-E7C1-4952-A1E5-F02E37D3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F5933-6CE6-4E72-9613-D1999D1D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234C-4406-40BC-95B6-896B4119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E644B-9561-43FD-B42C-3F89EE7F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F21E-0278-4BE2-B7D0-8CE989E5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AB34B-62BC-4B8F-872F-2D6334A9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A38-88B3-49C5-85AB-B9D0DE4B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1288-4A36-4E55-8582-FD3D9766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E3A4C-B789-4B12-AD84-A809C14B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AF40-5E9D-49F3-8564-5BC15856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D1E20-343D-4B10-B25C-5ECBDE5E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F333-DBAB-4A5D-8263-08C2A708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2CBDC-AAA6-491E-8645-680DC85B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D753C-58CF-4A37-A630-6695FE89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D1A21-8327-4A9C-AAE8-15113968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77B3-8C20-4909-8483-B7B9516E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9829B-C8A8-4C97-8882-3E5BA321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109-3E0B-4ECF-80DE-9BCEB1C8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3322-9611-46C2-AA3A-362FD83D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7340-0218-43CC-8780-FA1F0DCF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FFF5F-D2C4-41B2-9AD8-1AF1CEA9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43563-C6DD-445D-A111-DD143B6F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09D3C-AFB8-4494-AB2B-412C873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600EE-5698-4A85-BAC3-B778D7CB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E58A4-5F71-4E54-8DFB-FE9A6CC6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FE1C9-AD11-453D-889E-BD5F8ACD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410E-62CF-4025-B6DF-299052A8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6286F-958F-4F60-9E35-50B32518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6B49-86FE-4EF3-9A7D-6588FA62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B36F2-1CFF-4BFF-BB8C-C95662C6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98E38-EFC4-4A5D-8D40-806963CC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D53D-1956-409C-9102-1D801B2C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D4614-C55B-4E4B-92A0-08DEFBCA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57660-E754-4EB3-82F1-C0E8CF03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1769F-5B77-4814-95AA-30E11114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5E5B9-9D5E-4B54-BDE3-60A4CA68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0F3FC-D45D-46A3-BAFA-AF6F471F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0CFE4-9B89-4007-A21F-FE900847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1952B-4F73-4B28-BD59-0C00CD40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E79-2056-4D16-8F2F-636A8DBB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D97A-9FB9-47EF-8154-0DDCD0F1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88059-0841-4F20-BA3D-EDF070F7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28D88-6BCB-401D-8B78-75ED44D1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54B56-BFF4-48C4-B61D-DDED0416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BDD11-DFF6-4264-9716-C8689E08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35E71-A6E9-4A40-BB7E-907DE7AA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2A60A-D086-48EC-8291-F059AE12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DD4DF-2F84-41A1-B932-CE6B8FD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F1B3F-02B9-4CA1-A295-A1822A27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35AC2-A5A1-4F9C-8BA0-B4F02D99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DCB-EDCD-4AD6-8BCC-58BFFE8B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9522D-38DF-4E7B-8F5F-F9BD2C6C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C1C5E-9C86-423F-BF7C-033DE63A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D8893-310D-4888-88B9-5C471F7D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C12A9-6EFF-44A3-8220-812C6EEE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3B15A-A72A-4B63-AA58-33895D07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1731C-B6D5-4E24-A59B-A9063C0C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7844-F0A0-4589-A0AF-02EC5912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A5135-4555-4CAA-9893-30C6BD18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619FF-DBAF-45BE-A7C7-8B523177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425A4-B05E-4F2C-B536-15DB0388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994-DB43-4A08-BC93-866FA4C4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EB43F-B5DF-4A12-9656-2153DD14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B66A9-2380-41AC-BCF9-1C28AF6F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4F43-191E-4F68-BF78-B78FE84B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6EFAC-81F9-47C6-8EFC-432E0F2D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AC44-A8E4-48C4-9E07-DA7759C0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48E14-3496-4531-8A85-6C349F9C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EAF1A-034D-45E6-BB59-9B67DC45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1A8A3-33F7-44AD-96BD-77FED702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12CA5-1BAD-4FD0-8E58-E148C5AC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432B-28FE-4C3E-8DA5-7F2EA200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307-5123-47C0-B216-7F326DCD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A60BF-3783-4B06-8C2A-DCCA35A9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7FD27-2873-42D8-A53B-781F10BC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E71E2-081C-4F4A-B666-D6E3A539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C48E8-867D-4271-A6D3-3BEB0D30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AC803-E122-4BD9-85B3-E4DA6551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F8D60-9DB1-42D2-94D3-BE04E45F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AA3B4-1A16-4044-AE2E-33576A2B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2DBB7-EA17-4B37-95A6-E333720C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C20AB-EEDC-4F45-832B-C52ACA6D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999BA-8A3A-4DC9-BF05-A5A0B53F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360E-967D-47FA-8EC7-B56B57A52F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6BD3-C535-460E-8285-82BDEB352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A70E-A5AD-4534-93B0-02C52B8C64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761D-0FA7-4F5F-B12E-BF101B727A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9E7E-FB0C-4068-9885-1503AF8475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6BF8-B7AC-4641-BB85-981A40AEC0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F0C9-947A-4FF4-83BB-896D8BB7F9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9D85-237F-426D-B6BC-FD57E5808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C431-667D-4B21-AD28-1DB1FEAF18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2C6F-074A-4F8C-9717-822F8CB33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9476-588D-4BEB-A8BF-33702D36B7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31ED-336C-4B29-99F5-D1B4C07926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7BAU2XX5Ws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LEMENTARY APPLIC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Blogs &amp; Wiki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TextBox 3"/>
          <p:cNvSpPr/>
          <p:nvPr/>
        </p:nvSpPr>
        <p:spPr>
          <a:xfrm>
            <a:off x="7010280" y="5867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349"/>
                </a:solidFill>
                <a:latin typeface="Georgia"/>
              </a:rPr>
              <a:t>ESA Region 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Picture 4" descr="esa logo attempt.jpg"/>
          <p:cNvPicPr/>
          <p:nvPr/>
        </p:nvPicPr>
        <p:blipFill>
          <a:blip r:embed="rId1"/>
          <a:stretch/>
        </p:blipFill>
        <p:spPr>
          <a:xfrm>
            <a:off x="7467480" y="5105520"/>
            <a:ext cx="93348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WRITING PROCESS:  BLO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EFLECTIV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ANNOT BE EDITED BY OTHER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OLLABORATIVE WRITING: WIKI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EER REVIEW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EAMS OR GROUP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HANGES ARE TRACKE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To Blog or To Wiki?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REATE AND ADHERE TO SCHOOL TECHNOLOGY POLIC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REVIEW THE ENTIRE POLICY WITH STAFF, STUDENTS AND PAR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EACH ETHICAL AND LEGAL BEHAVIOR FOR TECHNOLOGY US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Safety &amp; Privacy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       </a:t>
            </a: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Thank You!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46b86"/>
                </a:solidFill>
                <a:latin typeface="Georgia"/>
              </a:rPr>
              <a:t>www.edec.org/esa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8" name="Picture Placeholder 8" descr="esa logo attempt.jpg"/>
          <p:cNvPicPr/>
          <p:nvPr/>
        </p:nvPicPr>
        <p:blipFill>
          <a:blip r:embed="rId1"/>
          <a:srcRect l="0" t="3009" r="0" b="3009"/>
          <a:stretch/>
        </p:blipFill>
        <p:spPr>
          <a:xfrm>
            <a:off x="3000240" y="609480"/>
            <a:ext cx="5867640" cy="426744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880" y="5638680"/>
            <a:ext cx="2438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Melissa Goodwin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mgoodwin@edec.org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Text Placeholder 5" descr=""/>
          <p:cNvPicPr/>
          <p:nvPr/>
        </p:nvPicPr>
        <p:blipFill>
          <a:blip r:embed="rId1"/>
          <a:stretch/>
        </p:blipFill>
        <p:spPr>
          <a:xfrm>
            <a:off x="884160" y="2706840"/>
            <a:ext cx="7478640" cy="30906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Effective Technology Leadership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6480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VIEW THE VIDEO ON YOUTUBE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YOUTUBE.COM/WATCH?V=F7BAU2XX5WS</a:t>
            </a: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What is a Wiki?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COLLABORATIVE AUTHORING TOOL (21</a:t>
            </a:r>
            <a:r>
              <a:rPr b="1" lang="en-US" sz="1500" spc="-1" strike="noStrike" baseline="30000">
                <a:solidFill>
                  <a:srgbClr val="646b86"/>
                </a:solidFill>
                <a:latin typeface="Georgia"/>
              </a:rPr>
              <a:t>ST</a:t>
            </a: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 CENTURY SKILLS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WEB BASED, CAN BE ACCESSED FROM ANYWHERE WITH AN INTERNET CONNECTION (WEB 2.0)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MAY BE STUDENT DIRECTED OR TEACHER DIRECTED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PEER EDITING AND WRITING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EPORTFOLIO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Why Wikis?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COLLABORATIVE STORYTELLING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HTTP://TERRYTHETENNISBALL.WIKISPACES.COM/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KIDS TEACHING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BOOK STUDIE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HTTP://WIKI.WOODWARD.EDU/HANNALEE/DOKU.PHP?ID=HANNALEE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SUPPLEMENTAL MATERIAL FOR CLASS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HTTP://STAT21.WIKISPACES.COM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Wiki applications for K-5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1371600" y="3200400"/>
            <a:ext cx="6480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VIEW THE VIDEO ON TEACHERTUB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TTP://WWW.TEACHERTUBE.COM/VIEW_VIDEO.PHP?VIEWKEY=367AB9EED5AF82966A48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What is a Blo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STUDENTS WRITE BETTER WHEN THEY HAVE A REAL AUDIENC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PROMOTE OPEN DIALOGUE WHERE STUDENTS SHARE KNOWLEDGE AND REFLECT ON A TOPIC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ENGAGING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INTERACTIVE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MEET STUDENTS “WHERE THEY LIVE”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ELL STUDENTS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b86"/>
                </a:solidFill>
                <a:latin typeface="Georgia"/>
              </a:rPr>
              <a:t>WRITING ACROSS CONTENT AREA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Why Blog?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368000" y="2742840"/>
            <a:ext cx="64803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ELEMENTARY SCHOOL PUBLISH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UDENT JOURNAL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TTP://SDSTAT21.EDUBLOGS.ORG/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EACHERS COMMUNICATE WITH PAR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DAILY CHRONICLES OF CLASSRO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OMMUNITY ACTIVIS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HTTP://MONTROSE.COMMUNITYBLOGS.US/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Blog Applications for K-5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1371600" y="3200040"/>
            <a:ext cx="6480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PUBLIC RELATION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OMMUNITY BLOGG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RAND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CREATE CUSTOMER EVANGELIS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THOUGHT LEADERSHIP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buClr>
                <a:srgbClr val="d1634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eorgia"/>
              </a:rPr>
              <a:t>Reasons for an administrator  to blog: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0:12:23Z</dcterms:created>
  <dc:creator>Melissa Goodwin</dc:creator>
  <dc:description/>
  <dc:language>en-US</dc:language>
  <cp:lastModifiedBy>Melissa Goodwin</cp:lastModifiedBy>
  <dcterms:modified xsi:type="dcterms:W3CDTF">2008-09-18T16:20:00Z</dcterms:modified>
  <cp:revision>25</cp:revision>
  <dc:subject/>
  <dc:title>Elementary Principals Meeting</dc:title>
</cp:coreProperties>
</file>